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5E8-430B-417E-A29B-64B30D2D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E32-E4CA-4BBD-A96F-84FFA4EF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6E0-7C5B-4113-86F3-18DBA8BD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1DC-18F0-41E2-B434-3BB4D077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E67-50D1-4C7A-AAAE-C56FEA77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78E-95AC-4E17-82DB-500082B3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4A8-684C-4A38-AEB2-DCBDF0F7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06E-4573-403B-8CC3-93AEC506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274-A3DB-4DBD-AC20-86A7584C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DA5-CD04-45A7-8CD1-F0F51BE8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3F7-1FB2-4D2D-8C62-E3C453FE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962-4C44-4A09-A616-24DC154F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96BD-570C-444C-9590-CE4E595F7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him, in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ecause of hi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affirm the Church’s fai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4:57Z</dcterms:created>
  <dc:creator>Anon Anon</dc:creator>
  <dc:description/>
  <dc:language>en-US</dc:language>
  <cp:lastModifiedBy>Anon Anon</cp:lastModifiedBy>
  <dcterms:modified xsi:type="dcterms:W3CDTF">2005-08-09T05:09:48Z</dcterms:modified>
  <cp:revision>8</cp:revision>
  <dc:subject/>
  <dc:title>Memorial Acclamation (SLD-2)</dc:title>
</cp:coreProperties>
</file>